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ЦИОНАЛ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АРМАКОТЕРАПИЈЕ КОД ИНФЕКТИВ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ЛЕСТИ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тњи семестар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мик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2" descr=""/>
          <p:cNvPicPr/>
          <p:nvPr/>
        </p:nvPicPr>
        <p:blipFill>
          <a:blip r:embed="rId1"/>
          <a:stretch/>
        </p:blipFill>
        <p:spPr>
          <a:xfrm>
            <a:off x="291960" y="1778040"/>
            <a:ext cx="845820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Механизам дејства антимик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7760" y="1988640"/>
            <a:ext cx="8504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вији антимикотици (азоли – кетоконазол, флуконазол, итрконазол, вориконазол и др.) инхибирају синтезу ергостерола (инхибицијом П450-зависних ензима који учествују у синтези ергостерола), који је важан састојак ћелијске мембране гљи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ећањем пермеабилитета цитоплазматске мембране, што утиче на дејство ензима (који учествују у транспорту електрона) везаних за мембрану (амфотерицин Б и ниста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јњи ефекат је инхибиција репликације гљив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Механизам дејства антимик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59654" t="30133" r="10531" b="24833"/>
          <a:stretch/>
        </p:blipFill>
        <p:spPr>
          <a:xfrm>
            <a:off x="612720" y="1844640"/>
            <a:ext cx="79898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Механизам дејства антимик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7760" y="1988640"/>
            <a:ext cx="8504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метање синтезе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K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NK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нхибицијом ензима тимидилат синтетазе (флуцитоз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нхибиција синтезе глуканске компоненте ћелијског зида гљивице (каспофунгин, микафинг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Везивање за кератин коже (гризеофулвин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Нежељена дејства антимик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7760" y="1988640"/>
            <a:ext cx="8504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етоконазол има изражен афинитет за цитохром П 450-зависне ензиме човека (инхибира их) и може, посебно у већим дозама да смањи синтезу стероидних хормона (гинекомастија, олигоспермија, нерегуларност м. циклуса) и/или да смањи метаболизам других лекова у јетри, могућност испољавања хепатотокс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епатотоксичност - изразити нежељени ефекат и других азола (итраконазол, флуконазол), уз ГИТ смет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жељени ефекти амфотерицина: грозница, нефротоксичност (хипокалијемија, хипомагнеземија), кардиотоксичност (аритмије), неуротоксичност (губитак слуха, конвулзије, периферна неуропатија), хепато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ксичност се смањује при липозомалној формулацији (ив прим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мик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0080" y="184464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Трудноћа и лактациј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 апсолутне контраиндикације за примену системских (пероралних или ив) антимик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кална примена антимикотика праћена је минималном ресорпцијом и често су концентрације у крви испод могућности детекције, па је мала вероватноћа да би могло доћи до оштећења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ђутим, чак и у овим случајевима, не препоручује се примена антимикотика за време прва три месеца трудноће, а у даљем току трудноће само ако је терапија заиста неопходна. Лактацију треба прекинути ако се антимикотици примене систем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он-ХИВ вирус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руси су интрацелуларни паразити б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пственог метаболичког мех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руси су мали инфективни агенси који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стоје 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клеинских киселина (било РНК или Д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еинског омотача (капс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ипопротеинског омотача - неки ви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плетна инфективна партикула – вири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НК ви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ксвируси (велике богињ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ерпес вируси (херпес зостер, цитомегаловирусна инфекција, оралн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нитални херпес, прехлад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деновируси (фарингитис, коњуктивити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пиломавируси (брадавиц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епаднавируси (хепатитис Б – ХБ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НК ви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бела вируси (рубеол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рамиксовируси (морбили, заушк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томиксовируси (инфлуенц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довируси (беснило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икорнавируси (полиомијелитис, менингитис, прехлада, хепатитис 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енавируси (менингитис, Ласа грозниц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тровируси (СИДА - АИДС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ронавируси (САРС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e acute respiratory sy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еханизам дејства антивир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28131" t="27185" r="32588" b="12205"/>
          <a:stretch/>
        </p:blipFill>
        <p:spPr>
          <a:xfrm>
            <a:off x="1187280" y="1916280"/>
            <a:ext cx="70599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инфективни лекови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а инфекција узрокованих микобактер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а гљивичних 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а нон-ХИВ вирусних 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а ХИВ вирусне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Нон-ХИВ вирус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екција вирусом херпеса тип 1 (ХСВ-1) типично изазива обољење уста, усана, 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нитална инфекција је најчешће изазвана херпес вирусом типа 2 (ХСВ-2), али и типом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д имунокомпетентних људи блага инфекција уста, усана и ока решава се локалном применом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збиљне инфекције херпесом у новорођенчади и имунокомпромитованих особа захтевају системско лечење антивирот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арни или рекурентни генитални херпес симпле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чи се систем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вирусни лекови за лечење нон-ХИВ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080" y="22366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цикловир и видарабин      Херпес симплекс 1 и 2 инфе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лацикловир, идоксиуридин   Херпес симплекс 1 и 2 инфе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рштена резистенциј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анцикловир, Цидофир      Цитомегаловирусне 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збиљна и специфична нежељен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1"/>
          <p:cNvSpPr/>
          <p:nvPr/>
        </p:nvSpPr>
        <p:spPr>
          <a:xfrm>
            <a:off x="4500720" y="2092320"/>
            <a:ext cx="28728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5321160" y="2908440"/>
            <a:ext cx="28764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7"/>
          <p:cNvSpPr/>
          <p:nvPr/>
        </p:nvSpPr>
        <p:spPr>
          <a:xfrm>
            <a:off x="4533840" y="4106880"/>
            <a:ext cx="28728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вирусни лекови за лечење нон-ХИВ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бавирин      инфекција респираторним синцицијалним вирусом, вирусом хепатитиса Ц, вирусне хеморагичке грознице и Ласа гроз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маглобулин и хиперимуни гамаглоб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терферон алфа, бета и гама делују индиректно на вирусне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Д: синдром сличан грипу, депресивност, нес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"/>
          <p:cNvSpPr/>
          <p:nvPr/>
        </p:nvSpPr>
        <p:spPr>
          <a:xfrm>
            <a:off x="2938320" y="2073240"/>
            <a:ext cx="287640" cy="2872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Антивирусни лекови за лечење нон-ХИВ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Терапија хроничног хепатитиса Б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терферон алфа 2а (пегинтерферон алфа 2а) ; ламиву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Терапија хроничног хепатитиса Ц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разум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бинацију интерферон алфа 2б (пегинтерферон алфа 2б) и рибави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терферони у ћелијама домаћина индукују продукцију ензима који инхибирају транслацију вирусне мРНК у вирусне протеине и тако спречавају умножавање ви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да се примењују у вирусним инфекцијама, интерферони имају улогу превасходно у појачавању имуног одговора домаћ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ХИВ вирусна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дром стечене имудефицијенције (СИДА) изазива 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НК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ирус хумане имунодефицијенције (ХИВ1 и ХИВ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кубација 3-10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ирусна Реверзна транскриптаза ензим задужен за синтезу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бинова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клеот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-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хибитори проте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хибитори уласка вируса у лимфоц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хибитори вирусне интег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ханизам дејства: компетитивна инхибиција ензима реверзне транскриптазе ХИВ-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сфорилација лека у унутрашњости ћелије - фармаколошки активни трифосфатни метаболит лека конкурише природном супстрату за активна места на реверзној транскриптази (20-100 пута већи афинитет везивања у односу на приро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оксинуклеозид трифосфа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идовудин, Диданозин, Залцитабин, Ставудин, Ламивудин, Абака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ИТ сметње (наузеја, поврацање, бол у стомаку, дијареја), Панкреатитис, Поремећај функције јет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обоља, несан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емија, неутропенија, тромбоцитопен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лови у мишицима, периферне неуропат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актична ацидоза са хепатомегалијом (или без) и хепатичком стеаторејом – релативно ретка, али опас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подистрофицни синдом - редистрибуција масти, резистенција на инсулин и дислипидемиј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дистрибуција масти – губитак субкутаних масних наслага и таложење масти у абдомену, буффало грба, повецање груди - може се јавити као последица примене НИРТ и И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стенција на инсулин и дислипидемија – посебно је у вези са ИП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ного се ређе јавља резистенција на НИРТ него на ННИРТ и ИП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Нуклеот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нофовир про-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ра поднош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фикасан код пацијената резистентних на нуклеозидне инхибиторе реверзне транскрипт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е-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ректна инхибиција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вирапин и евафирен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лпивирин новосинтети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упају у бројне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фекције узроковане микобактериј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2133360"/>
            <a:ext cx="8147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b050"/>
                </a:solidFill>
                <a:latin typeface="Comic Sans MS"/>
              </a:rPr>
              <a:t>Mycobacterium</a:t>
            </a:r>
            <a:r>
              <a:rPr b="0" i="1" lang="en-GB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i="1" lang="hr-HR" sz="2400" spc="-1" strike="noStrike">
                <a:solidFill>
                  <a:srgbClr val="00b050"/>
                </a:solidFill>
                <a:latin typeface="Comic Sans MS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b050"/>
                </a:solidFill>
                <a:latin typeface="Comic Sans MS"/>
              </a:rPr>
              <a:t>Mycobacterium lep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Болест се најчешће манифестује на плућима, мада може да захвати и друге органе (мозак, мождане опне, бубреге, црева, кости, јајнике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еноси се преко ситних честица које болесник искашљава у спољашњу средину, те је стога заразан само оболели од плућне туберкуло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Зараза не значи и болест, а свега се 10% оних који се инфицирају и разболи од активне туберкул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е-нуклеозидни инхибитори реверзне транскрип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Д: раш- често током првих 6 недеља терапије, мада може ретко да прогредира у озбиљну форму (Стевенс-Јохнсон синд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ИТ смет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епатотоксичност и дислипидем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укција и инхибиција микрозомалних ензима јетр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же да се развије резистенција током неколико дана или недеља, ако се примењују у монотерап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ви лекови су међутим високоефикасни, ако се комбинују са бар још два антиретровирусн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ви лекови нису ефикасни против ХИВ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Инхибитори проте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ханизам дејства – компетитвна, селективна, реверзибилна инхибиција ХИВ-протеазе, дакле инхибиција синтезе структурних и регулаторних протеина, тако да се ослобађају и у крв улазе незреле, неинфективне вирусне партик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став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мпренав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динав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опина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лфинав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тонав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квинав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ипрана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Инхибитори проте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жељена дејства инхибитора проте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ИТ смет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подистрофични синдром (одлагање масти, резистенција на инсулин, дислипидем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мене у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акције са истовремено примењеним лек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И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иљ лечења је смањивање вируса у плазми што више и што ду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бало би поцети са терапијом пре него што се имуни систем иреверзибилно ошт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требу за раним отпочињањем терапије требало би ускладити са испољавањем токсичних ефеката ле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и-ХИВ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64680" y="1907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Инхибитори уласка вируса у лимфоц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нфурвитид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p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аравирок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C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дјувант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Инхибитори вирусне интег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лтегравир, елвитегравир, долутегра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Д: миопатија и рабдоми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Фармакотерапија ХИВ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4680" y="1907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поручује се од стартна комбинована терапија ("високо активна антивирусна терапија"- highly active antiretroviral therapy - HAART која подразумева примену 2 нуклеозидна инхибитора реверзне транскриптазе са или 1 не-нуклеозидним инхибитором реверзне транскриптазе или 1 потенцираним инхибитором ХИВ-протеаз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mic Sans MS"/>
              </a:rPr>
              <a:t>ПРОМЕНА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горшање стања (укључујући клиничке и виролошке промене) може да значи да треба да се промени терапија или да се дода други антивирусни л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бор алтернативне терапије зависи од одговора на претходну терапију, толеранције и могуће укрштене резист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рудноћа и ХИВ 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1716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иљ анти-ХИВ терапије у трудноћи је да се смањи ризик од токсичности за фетус (мада тератогени потенцијал већине антиретровирусних лекова није познат) да се минимизира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viral load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прогресија болести у мајке и превенира трансмисија инфекције на новорођен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mic Sans MS"/>
              </a:rPr>
              <a:t>Зидовудин, ламивудин, невирапин, атазанавир, лопинавир и ритонавир мањи потенцијал за 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ђутим, комбинована терапија максимизира шансу за превенирање трансмисије и представља оптималну терапију за мај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јке ХИВ-позитивне не би требало да доје дете, услед могућности да се инфекција пренесе на д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492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беркулоза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28806" t="23932" r="9595" b="13898"/>
          <a:stretch/>
        </p:blipFill>
        <p:spPr>
          <a:xfrm>
            <a:off x="755640" y="2060640"/>
            <a:ext cx="8055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беркулоза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0080" y="2276280"/>
            <a:ext cx="814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Comic Sans MS"/>
              </a:rPr>
              <a:t>Лекови првог избора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изониазид, рифампицин, стрептомицин, етамбутол и пиразин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Comic Sans MS"/>
              </a:rPr>
              <a:t>Лекови другог избора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капреомицин, амикацин, циклосерин, стрептомицин, кларитормицин и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ципрофлоксацин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мена антитуберкул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2133360"/>
            <a:ext cx="8147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У циљу смањења могућности појаве резистентних организама, терапија се спроводи у две фаз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0" i="1" lang="ru-RU" sz="2800" spc="-1" strike="noStrike">
                <a:solidFill>
                  <a:srgbClr val="00b050"/>
                </a:solidFill>
                <a:latin typeface="Comic Sans MS"/>
              </a:rPr>
              <a:t>иницијално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 месеца са комбинацијом изониазид, рифампицин и пиразинамид (плус етамбутол ако се сумња да је узроцник резистентан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0" i="1" lang="ru-RU" sz="2800" spc="-1" strike="noStrike">
                <a:solidFill>
                  <a:srgbClr val="00b050"/>
                </a:solidFill>
                <a:latin typeface="Comic Sans MS"/>
              </a:rPr>
              <a:t>фаза одржавања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4 месеца изониазид и рифамп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мена антитуберкул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0080" y="1988640"/>
            <a:ext cx="8147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Изониаз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нихибише синтезу миколичне кисели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улази у ћелију сисара и активан је против интрацелуларних организ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ежељени ефекти који укључују централни и периферни нервни систем могу да се предупреде упоредном применом пиридок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ифампицин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улази у фагоцитне ћелије и може да убије интрацелуларне организме, укључујући бацил туберкуло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зазива индукцију ензима јетре, и тако повећава разградњу бројних леко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ндукција разградње естрогена може да има за последицу изостанак ефекта хормонских контрацеп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Гљивич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0080" y="1844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испонирајући фактори за настанак гљивичних инфекциј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широка примена антибиотика, кортикостероида, имуносупрес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алних контрацепт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јабете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јазн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игне боле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јако знојењ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уме, мацерација коже, слаба хигијена, влажна и топла кл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д оболелих од АИДС-а јављају се тешки дисеминовани и резистентни облици површинских и дубоких микоза, који представљају посеб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Гљивич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080" y="1844640"/>
            <a:ext cx="828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апијска ефикасност антимикотика се по правилу не може са сигурношћу предвидети на основу антибиогр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јчешће гљивичне инфе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спергилоза (најчешће плућ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ндидијаза (најчешће вагинална, орофарингеална, кож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иптококоза (менингитис посебно код АИДС-а) Хистоплазмоза (најчешће плућ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љења коже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e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pori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ea cruri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ea pedi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ea capiti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и ноктију (онихомик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3-02-06T11:56:45Z</dcterms:modified>
  <cp:revision>302</cp:revision>
  <dc:subject/>
  <dc:title>Slide 1</dc:title>
</cp:coreProperties>
</file>